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E9F-D4ED-4C07-BF81-5EA4103D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0FE-66BD-4A9B-8962-CAE618F1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F08-AE3B-4F60-A78B-3AECCC57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09D-C130-4E72-B40F-89D30CA0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646F-0433-4CC0-ABAB-6D6CD889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B976-D366-49FF-A2DF-7CC4000C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CE4-5E8A-40FD-9641-418D6589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8A5-CBCA-4104-ABD9-C33A9F29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F25-1B4F-47A9-9449-0584B1C7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EDD3-1A51-423A-9BFE-01D64187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5CB3-D887-469E-B49B-92AA01F9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AD2-F4D0-4DDB-B16C-62619C89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A299-DDD5-4D4B-8465-644F596AF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igh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dmap, D&amp;C FTF, LCCM FTF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W Services Submission appro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 Radio submission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GNS Client 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RI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lition Day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522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21 Nov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Kevin Richard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 swradio.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 swradio@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840" y="6400800"/>
            <a:ext cx="30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MG TC Status Report , Version 1.1a, omg/2000-12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6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adio DS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verables from this Mee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Arial"/>
              </a:rPr>
              <a:t>Coalition Day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Arial"/>
              </a:rPr>
              <a:t>SWRADIO Submission MDA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Arial"/>
              </a:rPr>
              <a:t>Lightweight Services Sub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Arial"/>
              </a:rPr>
              <a:t>Insert D&amp;C, GNS Client Services, Power Mgt. Services, PCI Transports, Streaming Components for CORBA and other delive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 Deliverables (In-Proces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RADIO Final Sub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 Items for the Anaheim Mee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, update and working session for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1752480"/>
            <a:ext cx="3962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76360" indent="-236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522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5840" y="6400800"/>
            <a:ext cx="30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MG TC Status Report , Version 1.1a, omg/2000-12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522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21 Nov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Kevin Richard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 swradio.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 swradio@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57200"/>
            <a:ext cx="406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adio DS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15:58:21Z</dcterms:created>
  <dc:creator>Wayne Haughey</dc:creator>
  <dc:description/>
  <dc:language>en-US</dc:language>
  <cp:lastModifiedBy>jesmith</cp:lastModifiedBy>
  <dcterms:modified xsi:type="dcterms:W3CDTF">2003-11-19T16:58:49Z</dcterms:modified>
  <cp:revision>77</cp:revision>
  <dc:subject/>
  <dc:title>{TF/SIG/WG/SC Name Here}</dc:title>
</cp:coreProperties>
</file>